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703-2A09-44AB-98E7-FACA104B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321-83ED-4157-B496-2570C42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E9A-8817-4E9F-B012-343AB098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C92-4520-4EA0-B6B2-7086BF5C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895-2A80-413A-A85C-DECC0F72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34D-7558-45F4-907E-8453118E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9C0-58B7-4437-9895-360B3157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F82-E6C5-4300-9F19-2A57DDC2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5D9-D33A-4AF5-BF1F-6E0A01EC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FA0-F0C0-4F04-A0E3-9010972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E2A-1F06-4113-893D-75421DDF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C4B-569F-4F2F-8D61-D6A7424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948d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948d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48d4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48d4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48d4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48d4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48d4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E375-67D0-47F9-A08D-7885D02A40B3}" type="slidenum">
              <a:rPr b="0" lang="en-US" sz="1400" spc="-1" strike="noStrike">
                <a:solidFill>
                  <a:srgbClr val="948d4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7816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challenges for curriculum reform: pondering implications of patterns in the NZCER National Survey of Secondar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0920" y="5105520"/>
            <a:ext cx="799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ROSEMARY HIPKIN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Discussion at Ormiston College, November, 201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40080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8200" y="609300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 of learning-to-learn approaches is not yet common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6920" y="49960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48d4a"/>
                </a:solidFill>
                <a:latin typeface="Arial Mäori"/>
                <a:ea typeface="Times New Roman"/>
              </a:rPr>
              <a:t>Teacher correlations (r) between classroom learning factors</a:t>
            </a:r>
            <a:r>
              <a:rPr b="1" lang="en-NZ" sz="1000" spc="-1" strike="noStrike">
                <a:solidFill>
                  <a:srgbClr val="948d4a"/>
                </a:solidFill>
                <a:latin typeface="Arial Mäori"/>
                <a:ea typeface="Times New Roman"/>
              </a:rPr>
              <a:t> </a:t>
            </a:r>
            <a:endParaRPr b="0" lang="en-US" sz="1000" spc="-1" strike="noStrike">
              <a:solidFill>
                <a:srgbClr val="948d4a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332000" y="404640"/>
          <a:ext cx="6840360" cy="3732480"/>
        </p:xfrm>
        <a:graphic>
          <a:graphicData uri="http://schemas.openxmlformats.org/drawingml/2006/table">
            <a:tbl>
              <a:tblPr/>
              <a:tblGrid>
                <a:gridCol w="2279520"/>
                <a:gridCol w="2279520"/>
                <a:gridCol w="228132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Key competencies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Student experiences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Learning to learn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.45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.66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Key competencies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948d4a"/>
                          </a:solidFill>
                          <a:latin typeface="Arial Mäori"/>
                          <a:ea typeface="Times New Roman"/>
                        </a:rPr>
                        <a:t>.51</a:t>
                      </a: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418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Engaging and motivating studen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is school really for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049400"/>
            <a:ext cx="8713800" cy="471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60404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An interesting tension between NZC and NCEA here..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85800" y="189000"/>
          <a:ext cx="7772400" cy="5099040"/>
        </p:xfrm>
        <a:graphic>
          <a:graphicData uri="http://schemas.openxmlformats.org/drawingml/2006/table">
            <a:tbl>
              <a:tblPr/>
              <a:tblGrid>
                <a:gridCol w="3936960"/>
                <a:gridCol w="1917720"/>
                <a:gridCol w="19177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NCEA motivates underachieving students to do better  (agree/strongly agree)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Principal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Teacher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6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42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9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67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35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NCEA motivates high achieving students to do their best  (agree/strongly agree)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6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39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2009 respons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333399"/>
                          </a:solidFill>
                          <a:latin typeface="Times New Roman Mäori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5800" y="609480"/>
          <a:ext cx="7773120" cy="4763520"/>
        </p:xfrm>
        <a:graphic>
          <a:graphicData uri="http://schemas.openxmlformats.org/drawingml/2006/table">
            <a:tbl>
              <a:tblPr/>
              <a:tblGrid>
                <a:gridCol w="5103720"/>
                <a:gridCol w="2669400"/>
              </a:tblGrid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Students co-create their NCEA plan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Teacher responses</a:t>
                      </a:r>
                      <a:br>
                        <a:rPr sz="2100"/>
                      </a:b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(n=780)</a:t>
                      </a:r>
                      <a:br>
                        <a:rPr sz="2100"/>
                      </a:b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%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Most of the time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3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Quite often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7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Sometimes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20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Never/almost never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 u="sng">
                          <a:solidFill>
                            <a:srgbClr val="4ea9a4"/>
                          </a:solidFill>
                          <a:uFillTx/>
                          <a:latin typeface="Arial Mäori"/>
                          <a:ea typeface="Times New Roman"/>
                        </a:rPr>
                        <a:t>64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No response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56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100" spc="-1" strike="noStrike">
                          <a:solidFill>
                            <a:srgbClr val="4ea9a4"/>
                          </a:solidFill>
                          <a:latin typeface="Arial Mäori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Is there a way to take more proactive control of “motivation” agenda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How we talk about what motivation i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What constitutes learning “success”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Actions and support we expect to be motivat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How NCEA relates to NZC and its vision for “confident, connected, lifelong learners”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0000" y="907920"/>
            <a:ext cx="0" cy="352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508640"/>
            <a:ext cx="53989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1268280"/>
            <a:ext cx="4753080" cy="2881440"/>
          </a:xfrm>
          <a:prstGeom prst="line">
            <a:avLst/>
          </a:prstGeom>
          <a:ln w="38160">
            <a:solidFill>
              <a:srgbClr val="4ea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4743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Excellence; rigour; competition, </a:t>
            </a:r>
            <a:r>
              <a:rPr b="1" lang="en-US" sz="2400" spc="-1" strike="noStrike">
                <a:solidFill>
                  <a:srgbClr val="4ea9a4"/>
                </a:solidFill>
                <a:latin typeface="Arial"/>
              </a:rPr>
              <a:t>motivation </a:t>
            </a: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2360" y="162864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d4a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a9a4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0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oes this have to be an either/or? Could we rethink these as both/and ideas?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30000" y="4095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62360" y="495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15600" y="4076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362320" y="2133720"/>
            <a:ext cx="31813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948d4a"/>
                  </a:solidFill>
                  <a:miter/>
                </a:ln>
                <a:solidFill>
                  <a:srgbClr val="969696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ssing assessments, gaining credits</a:t>
            </a:r>
            <a:endParaRPr b="0" lang="en-US" sz="1200" spc="1" strike="noStrike">
              <a:ln w="12600">
                <a:solidFill>
                  <a:srgbClr val="948d4a"/>
                </a:solidFill>
                <a:miter/>
              </a:ln>
              <a:solidFill>
                <a:srgbClr val="969696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38280" y="1752480"/>
            <a:ext cx="3019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try to post-school course of choice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1476360" y="1628280"/>
            <a:ext cx="4572000" cy="2616480"/>
          </a:xfrm>
          <a:custGeom>
            <a:avLst/>
            <a:gdLst>
              <a:gd name="textAreaLeft" fmla="*/ 1005480 w 4572000"/>
              <a:gd name="textAreaRight" fmla="*/ 3566520 w 4572000"/>
              <a:gd name="textAreaTop" fmla="*/ 575280 h 2616480"/>
              <a:gd name="textAreaBottom" fmla="*/ 2041200 h 261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66760" y="253692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arning needs of students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495440" y="4264200"/>
            <a:ext cx="45720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99160" y="4137120"/>
            <a:ext cx="1108800" cy="1038960"/>
            <a:chOff x="2099160" y="4137120"/>
            <a:chExt cx="1108800" cy="1038960"/>
          </a:xfrm>
        </p:grpSpPr>
        <p:grpSp>
          <p:nvGrpSpPr>
            <p:cNvPr id="88" name=""/>
            <p:cNvGrpSpPr/>
            <p:nvPr/>
          </p:nvGrpSpPr>
          <p:grpSpPr>
            <a:xfrm>
              <a:off x="2099160" y="4640400"/>
              <a:ext cx="553680" cy="522360"/>
              <a:chOff x="2099160" y="4640400"/>
              <a:chExt cx="553680" cy="522360"/>
            </a:xfrm>
          </p:grpSpPr>
          <p:sp>
            <p:nvSpPr>
              <p:cNvPr id="89" name=""/>
              <p:cNvSpPr/>
              <p:nvPr/>
            </p:nvSpPr>
            <p:spPr>
              <a:xfrm rot="18571200">
                <a:off x="2122200" y="4663800"/>
                <a:ext cx="114120" cy="114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948d4a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2114640" y="4726800"/>
                <a:ext cx="538200" cy="435960"/>
                <a:chOff x="2114640" y="4726800"/>
                <a:chExt cx="538200" cy="435960"/>
              </a:xfrm>
            </p:grpSpPr>
            <p:sp>
              <p:nvSpPr>
                <p:cNvPr id="91" name=""/>
                <p:cNvSpPr/>
                <p:nvPr/>
              </p:nvSpPr>
              <p:spPr>
                <a:xfrm rot="18571200">
                  <a:off x="2252520" y="4752000"/>
                  <a:ext cx="152280" cy="429840"/>
                </a:xfrm>
                <a:custGeom>
                  <a:avLst/>
                  <a:gdLst/>
                  <a:ahLst/>
                  <a:rect l="l" t="t" r="r" b="b"/>
                  <a:pathLst>
                    <a:path w="240" h="677">
                      <a:moveTo>
                        <a:pt x="240" y="0"/>
                      </a:moveTo>
                      <a:cubicBezTo>
                        <a:pt x="237" y="53"/>
                        <a:pt x="233" y="107"/>
                        <a:pt x="230" y="160"/>
                      </a:cubicBezTo>
                      <a:cubicBezTo>
                        <a:pt x="226" y="237"/>
                        <a:pt x="229" y="314"/>
                        <a:pt x="220" y="390"/>
                      </a:cubicBezTo>
                      <a:cubicBezTo>
                        <a:pt x="219" y="402"/>
                        <a:pt x="205" y="409"/>
                        <a:pt x="200" y="420"/>
                      </a:cubicBezTo>
                      <a:cubicBezTo>
                        <a:pt x="177" y="471"/>
                        <a:pt x="152" y="520"/>
                        <a:pt x="130" y="570"/>
                      </a:cubicBezTo>
                      <a:cubicBezTo>
                        <a:pt x="121" y="589"/>
                        <a:pt x="117" y="610"/>
                        <a:pt x="110" y="630"/>
                      </a:cubicBezTo>
                      <a:cubicBezTo>
                        <a:pt x="107" y="640"/>
                        <a:pt x="110" y="657"/>
                        <a:pt x="100" y="660"/>
                      </a:cubicBezTo>
                      <a:cubicBezTo>
                        <a:pt x="48" y="677"/>
                        <a:pt x="81" y="670"/>
                        <a:pt x="0" y="670"/>
                      </a:cubicBezTo>
                    </a:path>
                  </a:pathLst>
                </a:custGeom>
                <a:noFill/>
                <a:ln w="57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753200">
                  <a:off x="2399400" y="4835160"/>
                  <a:ext cx="215640" cy="206280"/>
                </a:xfrm>
                <a:custGeom>
                  <a:avLst/>
                  <a:gdLst/>
                  <a:ahLst/>
                  <a:rect l="l" t="t" r="r" b="b"/>
                  <a:pathLst>
                    <a:path w="340" h="325">
                      <a:moveTo>
                        <a:pt x="0" y="0"/>
                      </a:moveTo>
                      <a:cubicBezTo>
                        <a:pt x="31" y="46"/>
                        <a:pt x="77" y="67"/>
                        <a:pt x="110" y="110"/>
                      </a:cubicBezTo>
                      <a:cubicBezTo>
                        <a:pt x="146" y="157"/>
                        <a:pt x="183" y="217"/>
                        <a:pt x="210" y="270"/>
                      </a:cubicBezTo>
                      <a:cubicBezTo>
                        <a:pt x="222" y="294"/>
                        <a:pt x="213" y="314"/>
                        <a:pt x="250" y="320"/>
                      </a:cubicBezTo>
                      <a:cubicBezTo>
                        <a:pt x="280" y="325"/>
                        <a:pt x="310" y="320"/>
                        <a:pt x="340" y="320"/>
                      </a:cubicBezTo>
                    </a:path>
                  </a:pathLst>
                </a:custGeom>
                <a:noFill/>
                <a:ln w="57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8571200">
                  <a:off x="2221560" y="4766040"/>
                  <a:ext cx="183600" cy="171360"/>
                </a:xfrm>
                <a:custGeom>
                  <a:avLst/>
                  <a:gdLst/>
                  <a:ahLst/>
                  <a:rect l="l" t="t" r="r" b="b"/>
                  <a:pathLst>
                    <a:path w="289" h="270">
                      <a:moveTo>
                        <a:pt x="0" y="240"/>
                      </a:moveTo>
                      <a:cubicBezTo>
                        <a:pt x="8" y="215"/>
                        <a:pt x="15" y="145"/>
                        <a:pt x="30" y="130"/>
                      </a:cubicBezTo>
                      <a:cubicBezTo>
                        <a:pt x="57" y="103"/>
                        <a:pt x="93" y="87"/>
                        <a:pt x="120" y="60"/>
                      </a:cubicBezTo>
                      <a:cubicBezTo>
                        <a:pt x="122" y="53"/>
                        <a:pt x="137" y="0"/>
                        <a:pt x="150" y="0"/>
                      </a:cubicBezTo>
                      <a:cubicBezTo>
                        <a:pt x="164" y="0"/>
                        <a:pt x="170" y="20"/>
                        <a:pt x="180" y="30"/>
                      </a:cubicBezTo>
                      <a:cubicBezTo>
                        <a:pt x="190" y="71"/>
                        <a:pt x="202" y="93"/>
                        <a:pt x="220" y="130"/>
                      </a:cubicBezTo>
                      <a:cubicBezTo>
                        <a:pt x="242" y="174"/>
                        <a:pt x="215" y="151"/>
                        <a:pt x="250" y="200"/>
                      </a:cubicBezTo>
                      <a:cubicBezTo>
                        <a:pt x="289" y="255"/>
                        <a:pt x="280" y="201"/>
                        <a:pt x="280" y="270"/>
                      </a:cubicBezTo>
                    </a:path>
                  </a:pathLst>
                </a:custGeom>
                <a:noFill/>
                <a:ln w="38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" name=""/>
            <p:cNvGrpSpPr/>
            <p:nvPr/>
          </p:nvGrpSpPr>
          <p:grpSpPr>
            <a:xfrm>
              <a:off x="2408040" y="4594320"/>
              <a:ext cx="348120" cy="581760"/>
              <a:chOff x="2408040" y="4594320"/>
              <a:chExt cx="348120" cy="581760"/>
            </a:xfrm>
          </p:grpSpPr>
          <p:sp>
            <p:nvSpPr>
              <p:cNvPr id="95" name=""/>
              <p:cNvSpPr/>
              <p:nvPr/>
            </p:nvSpPr>
            <p:spPr>
              <a:xfrm>
                <a:off x="2522160" y="459432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948d4a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408040" y="4708440"/>
                <a:ext cx="348120" cy="467640"/>
                <a:chOff x="2408040" y="4708440"/>
                <a:chExt cx="348120" cy="467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408040" y="4708440"/>
                  <a:ext cx="152280" cy="429840"/>
                </a:xfrm>
                <a:custGeom>
                  <a:avLst/>
                  <a:gdLst/>
                  <a:ahLst/>
                  <a:rect l="l" t="t" r="r" b="b"/>
                  <a:pathLst>
                    <a:path w="240" h="677">
                      <a:moveTo>
                        <a:pt x="240" y="0"/>
                      </a:moveTo>
                      <a:cubicBezTo>
                        <a:pt x="237" y="53"/>
                        <a:pt x="233" y="107"/>
                        <a:pt x="230" y="160"/>
                      </a:cubicBezTo>
                      <a:cubicBezTo>
                        <a:pt x="226" y="237"/>
                        <a:pt x="229" y="314"/>
                        <a:pt x="220" y="390"/>
                      </a:cubicBezTo>
                      <a:cubicBezTo>
                        <a:pt x="219" y="402"/>
                        <a:pt x="205" y="409"/>
                        <a:pt x="200" y="420"/>
                      </a:cubicBezTo>
                      <a:cubicBezTo>
                        <a:pt x="177" y="471"/>
                        <a:pt x="152" y="520"/>
                        <a:pt x="130" y="570"/>
                      </a:cubicBezTo>
                      <a:cubicBezTo>
                        <a:pt x="121" y="589"/>
                        <a:pt x="117" y="610"/>
                        <a:pt x="110" y="630"/>
                      </a:cubicBezTo>
                      <a:cubicBezTo>
                        <a:pt x="107" y="640"/>
                        <a:pt x="110" y="657"/>
                        <a:pt x="100" y="660"/>
                      </a:cubicBezTo>
                      <a:cubicBezTo>
                        <a:pt x="48" y="677"/>
                        <a:pt x="81" y="670"/>
                        <a:pt x="0" y="67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1182000">
                  <a:off x="2511720" y="4939560"/>
                  <a:ext cx="215640" cy="206280"/>
                </a:xfrm>
                <a:custGeom>
                  <a:avLst/>
                  <a:gdLst/>
                  <a:ahLst/>
                  <a:rect l="l" t="t" r="r" b="b"/>
                  <a:pathLst>
                    <a:path w="340" h="325">
                      <a:moveTo>
                        <a:pt x="0" y="0"/>
                      </a:moveTo>
                      <a:cubicBezTo>
                        <a:pt x="31" y="46"/>
                        <a:pt x="77" y="67"/>
                        <a:pt x="110" y="110"/>
                      </a:cubicBezTo>
                      <a:cubicBezTo>
                        <a:pt x="146" y="157"/>
                        <a:pt x="183" y="217"/>
                        <a:pt x="210" y="270"/>
                      </a:cubicBezTo>
                      <a:cubicBezTo>
                        <a:pt x="222" y="294"/>
                        <a:pt x="213" y="314"/>
                        <a:pt x="250" y="320"/>
                      </a:cubicBezTo>
                      <a:cubicBezTo>
                        <a:pt x="280" y="325"/>
                        <a:pt x="310" y="320"/>
                        <a:pt x="340" y="32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71400" y="4752720"/>
                  <a:ext cx="183600" cy="171360"/>
                </a:xfrm>
                <a:custGeom>
                  <a:avLst/>
                  <a:gdLst/>
                  <a:ahLst/>
                  <a:rect l="l" t="t" r="r" b="b"/>
                  <a:pathLst>
                    <a:path w="289" h="270">
                      <a:moveTo>
                        <a:pt x="0" y="240"/>
                      </a:moveTo>
                      <a:cubicBezTo>
                        <a:pt x="8" y="215"/>
                        <a:pt x="15" y="145"/>
                        <a:pt x="30" y="130"/>
                      </a:cubicBezTo>
                      <a:cubicBezTo>
                        <a:pt x="57" y="103"/>
                        <a:pt x="93" y="87"/>
                        <a:pt x="120" y="60"/>
                      </a:cubicBezTo>
                      <a:cubicBezTo>
                        <a:pt x="122" y="53"/>
                        <a:pt x="137" y="0"/>
                        <a:pt x="150" y="0"/>
                      </a:cubicBezTo>
                      <a:cubicBezTo>
                        <a:pt x="164" y="0"/>
                        <a:pt x="170" y="20"/>
                        <a:pt x="180" y="30"/>
                      </a:cubicBezTo>
                      <a:cubicBezTo>
                        <a:pt x="190" y="71"/>
                        <a:pt x="202" y="93"/>
                        <a:pt x="220" y="130"/>
                      </a:cubicBezTo>
                      <a:cubicBezTo>
                        <a:pt x="242" y="174"/>
                        <a:pt x="215" y="151"/>
                        <a:pt x="250" y="200"/>
                      </a:cubicBezTo>
                      <a:cubicBezTo>
                        <a:pt x="289" y="255"/>
                        <a:pt x="280" y="201"/>
                        <a:pt x="280" y="27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"/>
            <p:cNvSpPr/>
            <p:nvPr/>
          </p:nvSpPr>
          <p:spPr>
            <a:xfrm flipV="1">
              <a:off x="2636640" y="4137120"/>
              <a:ext cx="5713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1838160" y="3222720"/>
            <a:ext cx="4229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arning for the futur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2752560" y="4937040"/>
            <a:ext cx="343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48d4a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948d4a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467240" y="1533600"/>
            <a:ext cx="456840" cy="342720"/>
            <a:chOff x="4467240" y="1533600"/>
            <a:chExt cx="456840" cy="342720"/>
          </a:xfrm>
        </p:grpSpPr>
        <p:grpSp>
          <p:nvGrpSpPr>
            <p:cNvPr id="104" name=""/>
            <p:cNvGrpSpPr/>
            <p:nvPr/>
          </p:nvGrpSpPr>
          <p:grpSpPr>
            <a:xfrm>
              <a:off x="4467240" y="1533600"/>
              <a:ext cx="126000" cy="238680"/>
              <a:chOff x="4467240" y="1533600"/>
              <a:chExt cx="126000" cy="238680"/>
            </a:xfrm>
          </p:grpSpPr>
          <p:sp>
            <p:nvSpPr>
              <p:cNvPr id="105" name=""/>
              <p:cNvSpPr/>
              <p:nvPr/>
            </p:nvSpPr>
            <p:spPr>
              <a:xfrm>
                <a:off x="4507920" y="1533600"/>
                <a:ext cx="40680" cy="47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948d4a"/>
                  </a:solidFill>
                  <a:latin typeface="Arial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4467240" y="1580760"/>
                <a:ext cx="126000" cy="191520"/>
                <a:chOff x="4467240" y="1580760"/>
                <a:chExt cx="126000" cy="191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67240" y="1580760"/>
                  <a:ext cx="54360" cy="178200"/>
                </a:xfrm>
                <a:custGeom>
                  <a:avLst/>
                  <a:gdLst/>
                  <a:ahLst/>
                  <a:rect l="l" t="t" r="r" b="b"/>
                  <a:pathLst>
                    <a:path w="240" h="677">
                      <a:moveTo>
                        <a:pt x="240" y="0"/>
                      </a:moveTo>
                      <a:cubicBezTo>
                        <a:pt x="237" y="53"/>
                        <a:pt x="233" y="107"/>
                        <a:pt x="230" y="160"/>
                      </a:cubicBezTo>
                      <a:cubicBezTo>
                        <a:pt x="226" y="237"/>
                        <a:pt x="229" y="314"/>
                        <a:pt x="220" y="390"/>
                      </a:cubicBezTo>
                      <a:cubicBezTo>
                        <a:pt x="219" y="402"/>
                        <a:pt x="205" y="409"/>
                        <a:pt x="200" y="420"/>
                      </a:cubicBezTo>
                      <a:cubicBezTo>
                        <a:pt x="177" y="471"/>
                        <a:pt x="152" y="520"/>
                        <a:pt x="130" y="570"/>
                      </a:cubicBezTo>
                      <a:cubicBezTo>
                        <a:pt x="121" y="589"/>
                        <a:pt x="117" y="610"/>
                        <a:pt x="110" y="630"/>
                      </a:cubicBezTo>
                      <a:cubicBezTo>
                        <a:pt x="107" y="640"/>
                        <a:pt x="110" y="657"/>
                        <a:pt x="100" y="660"/>
                      </a:cubicBezTo>
                      <a:cubicBezTo>
                        <a:pt x="48" y="677"/>
                        <a:pt x="81" y="670"/>
                        <a:pt x="0" y="67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182000">
                  <a:off x="4503960" y="1676520"/>
                  <a:ext cx="77040" cy="85320"/>
                </a:xfrm>
                <a:custGeom>
                  <a:avLst/>
                  <a:gdLst/>
                  <a:ahLst/>
                  <a:rect l="l" t="t" r="r" b="b"/>
                  <a:pathLst>
                    <a:path w="340" h="325">
                      <a:moveTo>
                        <a:pt x="0" y="0"/>
                      </a:moveTo>
                      <a:cubicBezTo>
                        <a:pt x="31" y="46"/>
                        <a:pt x="77" y="67"/>
                        <a:pt x="110" y="110"/>
                      </a:cubicBezTo>
                      <a:cubicBezTo>
                        <a:pt x="146" y="157"/>
                        <a:pt x="183" y="217"/>
                        <a:pt x="210" y="270"/>
                      </a:cubicBezTo>
                      <a:cubicBezTo>
                        <a:pt x="222" y="294"/>
                        <a:pt x="213" y="314"/>
                        <a:pt x="250" y="320"/>
                      </a:cubicBezTo>
                      <a:cubicBezTo>
                        <a:pt x="280" y="325"/>
                        <a:pt x="310" y="320"/>
                        <a:pt x="340" y="32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489920" y="1599120"/>
                  <a:ext cx="65520" cy="70920"/>
                </a:xfrm>
                <a:custGeom>
                  <a:avLst/>
                  <a:gdLst/>
                  <a:ahLst/>
                  <a:rect l="l" t="t" r="r" b="b"/>
                  <a:pathLst>
                    <a:path w="289" h="270">
                      <a:moveTo>
                        <a:pt x="0" y="240"/>
                      </a:moveTo>
                      <a:cubicBezTo>
                        <a:pt x="8" y="215"/>
                        <a:pt x="15" y="145"/>
                        <a:pt x="30" y="130"/>
                      </a:cubicBezTo>
                      <a:cubicBezTo>
                        <a:pt x="57" y="103"/>
                        <a:pt x="93" y="87"/>
                        <a:pt x="120" y="60"/>
                      </a:cubicBezTo>
                      <a:cubicBezTo>
                        <a:pt x="122" y="53"/>
                        <a:pt x="137" y="0"/>
                        <a:pt x="150" y="0"/>
                      </a:cubicBezTo>
                      <a:cubicBezTo>
                        <a:pt x="164" y="0"/>
                        <a:pt x="170" y="20"/>
                        <a:pt x="180" y="30"/>
                      </a:cubicBezTo>
                      <a:cubicBezTo>
                        <a:pt x="190" y="71"/>
                        <a:pt x="202" y="93"/>
                        <a:pt x="220" y="130"/>
                      </a:cubicBezTo>
                      <a:cubicBezTo>
                        <a:pt x="242" y="174"/>
                        <a:pt x="215" y="151"/>
                        <a:pt x="250" y="200"/>
                      </a:cubicBezTo>
                      <a:cubicBezTo>
                        <a:pt x="289" y="255"/>
                        <a:pt x="280" y="201"/>
                        <a:pt x="280" y="27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948d4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4581360" y="15336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48d4a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948d4a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0920" y="404640"/>
            <a:ext cx="8713800" cy="459720"/>
          </a:xfrm>
          <a:prstGeom prst="rect">
            <a:avLst/>
          </a:prstGeom>
          <a:solidFill>
            <a:srgbClr val="e9fcff"/>
          </a:solidFill>
          <a:ln w="9360">
            <a:solidFill>
              <a:srgbClr val="f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800000"/>
                </a:solidFill>
                <a:latin typeface="Arial"/>
              </a:rPr>
              <a:t>What is senior secondary school really for?</a:t>
            </a:r>
            <a:r>
              <a:rPr b="1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4797360"/>
            <a:ext cx="38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(Diagram Bolstad and Gilbert, 2008)</a:t>
            </a:r>
            <a:endParaRPr b="0" lang="en-US" sz="1600" spc="-1" strike="noStrike">
              <a:solidFill>
                <a:srgbClr val="948d4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516640"/>
            <a:ext cx="8569080" cy="825480"/>
          </a:xfrm>
          <a:prstGeom prst="rect">
            <a:avLst/>
          </a:prstGeom>
          <a:solidFill>
            <a:srgbClr val="e9fcff"/>
          </a:solidFill>
          <a:ln w="9360">
            <a:solidFill>
              <a:srgbClr val="f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800000"/>
                </a:solidFill>
                <a:latin typeface="Arial"/>
              </a:rPr>
              <a:t>Who will help parents (and the wider public) develop new perspectives if we leave the agenda setting to others?</a:t>
            </a:r>
            <a:r>
              <a:rPr b="1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The purposes and practices of partnership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How will you bring your parent community along with you?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Four interrelated challenges on which to ref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The value/practice gap. How will you “walk the talk” to sustain your founding vision? What could help? What could hinder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Student voice: what does it mean? Why does it matter? What might it encompass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Engaging and motivating students: What is school really for?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4d4d4d"/>
                </a:solidFill>
                <a:latin typeface="Arial"/>
              </a:rPr>
              <a:t>The purposes and practices of partnership: how will you bring your parent community along with you?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56720" cy="44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0920" y="5734080"/>
            <a:ext cx="8572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48d4a"/>
                </a:solidFill>
                <a:latin typeface="Arial"/>
              </a:rPr>
              <a:t>Factor analysis: Principals, α =.89;  Teachers, α =.92.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48d4a"/>
                </a:solidFill>
                <a:latin typeface="Arial"/>
              </a:rPr>
              <a:t>Is this a deeply held value position?</a:t>
            </a:r>
            <a:r>
              <a:rPr b="0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32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575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48d4a"/>
                </a:solidFill>
                <a:latin typeface="Arial"/>
              </a:rPr>
              <a:t>I am supportive of NCEA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240" y="35100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An illustration of the partnership challenge….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3789360"/>
            <a:ext cx="1440000" cy="719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50920" y="990720"/>
            <a:ext cx="8305200" cy="5867280"/>
            <a:chOff x="250920" y="990720"/>
            <a:chExt cx="8305200" cy="5867280"/>
          </a:xfrm>
        </p:grpSpPr>
        <p:sp>
          <p:nvSpPr>
            <p:cNvPr id="122" name=""/>
            <p:cNvSpPr/>
            <p:nvPr/>
          </p:nvSpPr>
          <p:spPr>
            <a:xfrm>
              <a:off x="250920" y="990720"/>
              <a:ext cx="8152920" cy="586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1600" y="1714680"/>
              <a:ext cx="0" cy="424152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3040" y="3809880"/>
              <a:ext cx="449568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98400" y="2438280"/>
              <a:ext cx="25142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Focus on “getting” traditional content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6560" y="2438280"/>
              <a:ext cx="2881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Creating and using, 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not just getting knowledge 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80" y="3581280"/>
              <a:ext cx="1633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No risk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9200" y="3581280"/>
              <a:ext cx="1996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High risk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84280" y="1278000"/>
              <a:ext cx="3909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Development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07960" y="5919840"/>
              <a:ext cx="4636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Transformation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67760" y="4572000"/>
              <a:ext cx="18770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Learning generic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skills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33560" y="4572000"/>
              <a:ext cx="1789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d4a"/>
                  </a:solidFill>
                  <a:latin typeface="Arial"/>
                </a:rPr>
                <a:t>Learning to “be”</a:t>
              </a:r>
              <a:endParaRPr b="0" lang="en-US" sz="1800" spc="-1" strike="noStrike">
                <a:solidFill>
                  <a:srgbClr val="948d4a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rning for an unknown future</a:t>
            </a:r>
            <a:endParaRPr b="0" lang="en-US" sz="36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6021360"/>
            <a:ext cx="2232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Barnett, 2004</a:t>
            </a:r>
            <a:endParaRPr b="0" lang="en-US" sz="18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positions for an unknow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38436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Careful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Thoughtful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umility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Criticality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eceptive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esilience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Courag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Stillnes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The value/practice gap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How will you “walk the talk” to sustain your founding vision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could help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could hinder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008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56610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chers say they value pedagogies that could support development of key competencies - but they are less likely to say they actually use them…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0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281160"/>
            <a:ext cx="7417080" cy="635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1547280" y="333360"/>
            <a:ext cx="3024360" cy="5688000"/>
          </a:xfrm>
          <a:prstGeom prst="line">
            <a:avLst/>
          </a:prstGeom>
          <a:ln w="9360">
            <a:solidFill>
              <a:srgbClr val="948d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516640"/>
            <a:ext cx="720720" cy="62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-focused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054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948d4a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02400" cy="439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602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877000"/>
            <a:ext cx="889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48d4a"/>
                </a:solidFill>
                <a:latin typeface="Arial"/>
              </a:rPr>
              <a:t>Factor analysis: Teachers, α =.85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48d4a"/>
                </a:solidFill>
                <a:latin typeface="Arial"/>
              </a:rPr>
              <a:t>Associated with high  morale, innovative programmes, NZC implementation</a:t>
            </a:r>
            <a:r>
              <a:rPr b="0" lang="en-NZ" sz="2400" spc="-1" strike="noStrike">
                <a:solidFill>
                  <a:srgbClr val="948d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Student voi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does it mean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y does it matter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4d4d4d"/>
                </a:solidFill>
                <a:latin typeface="Arial"/>
              </a:rPr>
              <a:t>What might it encompas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71640" y="765000"/>
          <a:ext cx="7129080" cy="4894920"/>
        </p:xfrm>
        <a:graphic>
          <a:graphicData uri="http://schemas.openxmlformats.org/drawingml/2006/table">
            <a:tbl>
              <a:tblPr/>
              <a:tblGrid>
                <a:gridCol w="3414600"/>
                <a:gridCol w="1359720"/>
                <a:gridCol w="1208880"/>
                <a:gridCol w="1145880"/>
              </a:tblGrid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Learning area cluster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2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Agree/strongly agree %</a:t>
                      </a: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2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Neutral/Not sure %</a:t>
                      </a: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2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Disagree/  strongly disagree %</a:t>
                      </a:r>
                      <a:endParaRPr b="0" lang="en-US" sz="12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Mathematics, scienc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Technology, PE, health, transition, careers, special education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Social sciences, arts, commerce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333399"/>
                          </a:solidFill>
                          <a:latin typeface="Arial Mäori"/>
                          <a:ea typeface="Times New Roman"/>
                        </a:rPr>
                        <a:t>English, languages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 Mäori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948d4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11280" y="189000"/>
            <a:ext cx="779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s’ responses to the statement:</a:t>
            </a:r>
            <a:r>
              <a:rPr b="0" lang="en-US" sz="2400" spc="-1" strike="noStrike">
                <a:solidFill>
                  <a:srgbClr val="948d4a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There is too much emphasis on student voice and similar ideas nowadays</a:t>
            </a:r>
            <a:endParaRPr b="0" lang="en-US" sz="2000" spc="-1" strike="noStrike">
              <a:solidFill>
                <a:srgbClr val="948d4a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49680" y="582444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udent voice” appears to be a pivotal concept</a:t>
            </a:r>
            <a:endParaRPr b="0" lang="en-US" sz="2400" spc="-1" strike="noStrike">
              <a:solidFill>
                <a:srgbClr val="948d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1:40:11Z</dcterms:created>
  <dc:creator>Rose Hipkins</dc:creator>
  <dc:description/>
  <dc:language>en-US</dc:language>
  <cp:lastModifiedBy>Rose Hipkins</cp:lastModifiedBy>
  <dcterms:modified xsi:type="dcterms:W3CDTF">2010-11-26T02:25:46Z</dcterms:modified>
  <cp:revision>83</cp:revision>
  <dc:subject/>
  <dc:title>Should key competencies be assessed? Lessons from the New Zealand experience </dc:title>
</cp:coreProperties>
</file>